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315-A0BE-4F4A-97A6-261A9F29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9C1-B2E1-4326-B2F1-0A33C9A5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416-0F23-4347-A0B0-FE21B189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6E6-4F61-4DAF-9027-5D8BA62C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C52-3B0E-4B6C-BF0F-59039CD9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3AB-D2AF-4EAA-8BA8-71DF9D69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FF5-B7BA-43BE-A668-77B9C9A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06A-2F49-4D19-90A8-6DA3CAF8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E00-394A-4FDE-875E-BD5FD31E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A28-B685-4DBD-9014-443383E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CBE-667C-467C-97BB-EF02DA4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454-3209-49EB-B2BE-3D52188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AF0F-3042-41DB-8486-673A99E7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rricanes 2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 – Most knew who you were…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ll done.  All major points addressed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…a bit too much dependency on the powerpoint…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 website work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effective -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27:42Z</dcterms:created>
  <dc:creator>nbdoe</dc:creator>
  <dc:description/>
  <dc:language>en-US</dc:language>
  <cp:lastModifiedBy>nbdoe</cp:lastModifiedBy>
  <dcterms:modified xsi:type="dcterms:W3CDTF">2007-05-09T17:32:48Z</dcterms:modified>
  <cp:revision>1</cp:revision>
  <dc:subject/>
  <dc:title>Election 2007</dc:title>
</cp:coreProperties>
</file>